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obotz%20Menu%20Popup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2AB-9A57-4CE6-8A95-C86B17A4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3CC-312E-4EE0-8D32-C2649000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FB2-5016-48E0-B27A-8EA29ACD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4E0-F534-4069-927A-FED191A4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829-0B23-4E13-B6B2-645D0413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6F7-017E-4C7E-8837-937DF36F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8CB-C97D-4860-AA22-4085445A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B98-533A-4C06-94B4-A061A686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FDD-255A-456F-AC44-4BA30323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E6E-83C9-485A-A6D3-FC2B9A02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CC2-7674-47D9-8638-DEEC2567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9CB-A9AC-42B5-88C1-6ACC25ED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3297-2B22-40A0-9B80-741576EB8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6.xml"/><Relationship Id="rId3" Type="http://schemas.openxmlformats.org/officeDocument/2006/relationships/slide" Target="slide33.xml"/><Relationship Id="rId4" Type="http://schemas.openxmlformats.org/officeDocument/2006/relationships/slide" Target="slide30.xml"/><Relationship Id="rId5" Type="http://schemas.openxmlformats.org/officeDocument/2006/relationships/slide" Target="slide27.xml"/><Relationship Id="rId6" Type="http://schemas.openxmlformats.org/officeDocument/2006/relationships/slide" Target="slide24.xml"/><Relationship Id="rId7" Type="http://schemas.openxmlformats.org/officeDocument/2006/relationships/slide" Target="slide21.xml"/><Relationship Id="rId8" Type="http://schemas.openxmlformats.org/officeDocument/2006/relationships/slide" Target="slide18.xml"/><Relationship Id="rId9" Type="http://schemas.openxmlformats.org/officeDocument/2006/relationships/slide" Target="slide15.xml"/><Relationship Id="rId10" Type="http://schemas.openxmlformats.org/officeDocument/2006/relationships/slide" Target="slide12.xml"/><Relationship Id="rId11" Type="http://schemas.openxmlformats.org/officeDocument/2006/relationships/slide" Target="slide9.xml"/><Relationship Id="rId12" Type="http://schemas.openxmlformats.org/officeDocument/2006/relationships/slide" Target="slide6.xml"/><Relationship Id="rId13" Type="http://schemas.openxmlformats.org/officeDocument/2006/relationships/slide" Target="slide3.xml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7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13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6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7.xml"/><Relationship Id="rId3" Type="http://schemas.openxmlformats.org/officeDocument/2006/relationships/slide" Target="slide4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slide" Target="slide2.xml"/><Relationship Id="rId7" Type="http://schemas.openxmlformats.org/officeDocument/2006/relationships/slide" Target=""/><Relationship Id="rId8" Type="http://schemas.openxmlformats.org/officeDocument/2006/relationships/slide" Target="slide48.xml"/><Relationship Id="rId9" Type="http://schemas.openxmlformats.org/officeDocument/2006/relationships/slide" Target="slide49.xml"/><Relationship Id="rId10" Type="http://schemas.openxmlformats.org/officeDocument/2006/relationships/slide" Target="slide49.xml"/><Relationship Id="rId11" Type="http://schemas.openxmlformats.org/officeDocument/2006/relationships/slide" Target="slide49.xml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13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audio" Target="../media/Robotz%20Menu%20Popup.wav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audio" Target="../media/Robotz%20Menu%20Popup.wav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7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48.xml"/><Relationship Id="rId8" Type="http://schemas.openxmlformats.org/officeDocument/2006/relationships/slide" Target="slide49.xml"/><Relationship Id="rId9" Type="http://schemas.openxmlformats.org/officeDocument/2006/relationships/slide" Target="slide49.xml"/><Relationship Id="rId10" Type="http://schemas.openxmlformats.org/officeDocument/2006/relationships/slide" Target="slide49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40384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228600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58672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286000"/>
            <a:ext cx="0" cy="358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295280"/>
            <a:ext cx="2666880" cy="556272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Prize 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Prize 1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Prize 1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Prize 1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Prize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Prize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Prize 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Prize 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Prize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Prize 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Prize 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0" action="ppaction://hlinksldjump"/>
              </a:rPr>
              <a:t>Prize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1" action="ppaction://hlinksldjump"/>
              </a:rPr>
              <a:t>Prize 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2" action="ppaction://hlinksldjump"/>
              </a:rPr>
              <a:t>Prize 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3" action="ppaction://hlinksldjump"/>
              </a:rPr>
              <a:t>Prize 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4" action="ppaction://hlinksldjump"/>
          </p:cNvPr>
          <p:cNvSpPr/>
          <p:nvPr/>
        </p:nvSpPr>
        <p:spPr>
          <a:xfrm>
            <a:off x="1600200" y="362916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18763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6680" y="5381640"/>
            <a:ext cx="183492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. Rutherford B. Hay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02" name="">
            <a:hlinkClick r:id="rId1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When was Jackie Chan’s birth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April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April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When was Jackie Chan’s birth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April 7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April 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April 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April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April 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. What is Michigan's state bi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Rob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C. Blue Jay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. What is Michigan's state bi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Rob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Eag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Blue Ja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Gu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Rob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. How many teams are there in the NB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C. 4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B.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. How many teams are in the NB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3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2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3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. 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What is a mathematical problem with a finite combination of symbols and no equal 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A. Equat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C. Expre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. Who sells the most computers?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D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D. H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. Who sells the most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De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Ap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Sams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H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. H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. How many keys are on a desktop QWERTY Keybo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10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9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. How many keys are on a desktop QWERTY keybo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10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9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10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1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10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. Which sign represents the generalized reaction Chemical decompos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ahoma"/>
              </a:rPr>
              <a:t>2H2O2 → 2H2O + O2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ahoma"/>
              </a:rPr>
              <a:t>AB → A +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. Which sign represents the generalized reaction Chemical decomposi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ahoma"/>
              </a:rPr>
              <a:t>2MClO3 → 2MCl + 3O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C.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ahoma"/>
              </a:rPr>
              <a:t>2H2O2 → 2H2O + O2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 B.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ahoma"/>
              </a:rPr>
              <a:t>AB → A + B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D. CaCO3 → CaO + CO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B → A + B</a:t>
            </a:r>
            <a:r>
              <a:rPr b="1" lang="en-US" sz="36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. What year was the cell phone inv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19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197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What is a mathematical problem without an equal 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A. Equa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C. Expre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B. Algorith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 D. Ad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. When was the first cell phone inv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19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197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196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197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. 197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1. Where is the Mona Lisa located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New Engl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Paris, Franc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1. Where is the Mona Lisa located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New Eng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Mary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Washington D.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Paris, Fra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. Paris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. What is the name of the first lapt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Osborn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Boston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. What is the name of the first lapt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Osborn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Boston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Gilla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Antis  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Osborn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3. Who invented the toilet bow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Henry Sh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B. Thomas C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3. Who invented the first toilet bow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Jefferson For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Henry Sh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Thomas Crap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Kyle Ea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. Expres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. Thomas cra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. When was the first video game inv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195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195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. When was the first videogame inv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195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195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1957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195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. 19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. What was the first movie cal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Dracul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D. The Jazz Sing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. What was the first movie cal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Drac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4800600"/>
            <a:ext cx="3429000" cy="838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 The World, The Flesh And the De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B. Vampir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D. The Jazz S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5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6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. The Jazz S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380880"/>
            <a:ext cx="7721640" cy="5214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Sorry, but that is incorrec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hank you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play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67280" y="5638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ight Mouse Click and Choose END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295280" y="914400"/>
            <a:ext cx="6731280" cy="3994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TEACH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PAR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THE PRINCIPA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Your decis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4864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5715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04920" y="1981080"/>
            <a:ext cx="8559720" cy="247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Ask The Audienc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5486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Who invented Calcu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C. Isaac Newt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D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Albert Einste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8600" y="1295280"/>
            <a:ext cx="8559720" cy="4300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CONGRATULATIONS!!You are now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ECHKNOW GENIUS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Who invented Calculu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Thomas Jeffer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Isaac New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Benjamin Frankl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Albert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. Isaac Newt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84" name="">
            <a:hlinkClick r:id="rId1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Who was the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resident of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Zachery Tayl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Rutherford B. Ha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Who was the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resident of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Zachery Tay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James Garfiel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Rutherford B. Hay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Andrew Johns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3:26:41Z</dcterms:created>
  <dc:creator>MULACXAV</dc:creator>
  <dc:description/>
  <dc:language>en-US</dc:language>
  <cp:lastModifiedBy>MULACXAV</cp:lastModifiedBy>
  <dcterms:modified xsi:type="dcterms:W3CDTF">2010-11-12T13:34:49Z</dcterms:modified>
  <cp:revision>6</cp:revision>
  <dc:subject/>
  <dc:title>Slide 1</dc:title>
</cp:coreProperties>
</file>